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7A4-D03E-40EC-B5FB-8969E108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D49-D5D4-4CAB-B57F-F70585F9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C5E-1FC9-448D-8125-7310BB4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A68-4C70-47D8-BC53-34FF4745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9493-3564-4E4C-8957-10A162E4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E61B-F7A2-4D58-B067-ABF3765B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126-24CB-4F0F-9D71-0BE6CD1C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8C06-E137-4C8E-98C6-345C3EC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66D7-801D-484F-91B3-C47F2A4C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1AD1-DF41-4D6D-A8BB-DBB3654A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02D1-DEC4-4FBD-8C4E-65E81E3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0B2-2B06-41F3-8254-8A4E2B44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666-A0BB-4C91-B01A-4EA1832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3820-ACDC-4F02-9DC1-63D6818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1587-B8A1-426F-9C1E-D2665809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AC8-AF11-4F61-B1E9-C4F1187B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9F20-850F-4C0E-9B1A-DE32BB02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194-92EB-4746-9A3A-6204361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E9F-85B6-4629-8EE3-AFEF213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753-D919-4A51-9879-7D57032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8D5-AE7A-4A33-B6D4-F90AAD75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ECD-03D6-498C-B5F0-19CDA69D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52D-CBE2-480A-824A-6AFC472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9EB-76DF-40B3-A6C1-A5F790A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AC3-5A85-4C5D-973C-EF953FCE8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F86F-9375-496B-AE22-622EBEFA7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Character Sketch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t up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Character Sketc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aracter sketch describes how an author has create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ntal im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 character with her word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Character Sketch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he author does, says or thinks about the character helps shape the reader’s opin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also influenced by the character’s interactions with others in the book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Character Sketch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aracter may be described in many areas (physical, mental, social, moral, etc).  These all affect how the reader reacts to the charact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now you have developed lists of character traits for three of the major characters in your novel, along with support from the text itself.  This will be your researc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which of the three characters you would like to use for your Character Sketch essay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the character you choose is interesting to you.  This should also be a character that you feel has been well-described and has developed throughout your nove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s the time to make sure that you have enough character traits and support to fully develop your writ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your Character Essay Planning Page to set up the first draft of your sketc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s specific as you can in your description.  Make sure to cite real examples from the nove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links on our wiki to hel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n the Horizon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agraphing review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irst Draft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it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Second Draft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it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Third Draft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ou see where I’m going with thi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2:51:40Z</dcterms:created>
  <dc:creator>Administrator</dc:creator>
  <dc:description/>
  <dc:language>en-US</dc:language>
  <cp:lastModifiedBy>Administrator</cp:lastModifiedBy>
  <dcterms:modified xsi:type="dcterms:W3CDTF">2007-02-07T13:13:47Z</dcterms:modified>
  <cp:revision>4</cp:revision>
  <dc:subject/>
  <dc:title>The Character Sketch</dc:title>
</cp:coreProperties>
</file>